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BA79-9B26-4D3E-9346-46B93B41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59B3-F073-416F-9FEA-401503D7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  <a:ea typeface="MS PGothic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FBC0-1B1C-4700-9929-EBD92218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114-3B81-4650-A629-2DB21BA4C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2B5B-C9B8-4EA8-81C2-95A18945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F29-B000-46DA-B27A-3043D7DC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D57-EEA6-4DFD-932E-5BE2A285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F0C-3CEB-4F48-A478-322762B3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283-2957-4D5C-9514-6C69C321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2279-ADD6-4A60-823C-F62DFAE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59F1-945D-4F94-AA87-064D285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AA09-3B70-441A-AD13-09064D3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05A9-D587-4C36-AD10-D2FF6B18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5E15-C883-42F4-ABD4-FBBD4EAF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D53-2718-4874-9689-50E54D57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DD0-8BDB-4C90-9A59-7693133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926-1A2E-4C44-BFA1-D4FB6D4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B7A-F1C9-46E2-B2F9-8EC6271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AE28-2416-48E4-9C11-66B6C06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AFEA-531A-48B7-AEE2-D2C8237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1E5-4EC5-4BAD-B749-D339B00E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D9A8-DE5D-4AFC-8DD6-A24350BE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08B1-9AB1-4459-BBE7-5AC36BBB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773A-2BF8-410A-92F0-5EB3012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7611-E9DD-430D-AC8B-4A260C8B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CE7B-8A7E-43A3-8EBE-463FDD1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3409-EE80-442D-B89C-FAD878D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6D7-0A51-4BE3-82DA-264EBD97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424A-60B7-4E31-8D4E-F87B521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A3A8-B976-43D1-9FB9-80E0E33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6364-BC26-4FB6-A606-A814370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701B-275F-4088-B763-A7CE003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B063-47A2-433A-9A29-B56BC73C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F067-77D0-4BF9-85B8-004D29D9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68CE-5F9B-472B-BDDE-7486141C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640F-CFA1-42AC-9DB8-4E86295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F73C-A96E-4368-B1D3-D171E204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CE419-A98B-4CD6-A532-84BE97C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74C-4CB9-41D0-BF77-F2314CF0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E5D1-3B1E-4C6C-AD65-E7E3BB49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2285-B7B5-48C8-8BBD-0D916AC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E5FD-37C6-49C8-B991-6E81DFC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F689-473E-4662-842A-681E13A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D7A8-215D-4CA5-9CCA-841DB90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E71B-9E79-4DD1-A79E-B6018ED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9198-055F-4414-9984-FBD642BF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A4F6-B2FB-42C8-BC7B-663D8A16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6CBC-4698-4E89-9C3E-4A346076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16F-096C-46FF-83AD-34A4437B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E5E-740C-4822-9417-B07D782A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CD-49E1-425D-87BB-E7C960B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06D-F4D9-44B0-B9A4-D064863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2FD-8C75-4172-B020-2C117B5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B14-27CA-48A2-8D48-DCC39CD7C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4ACE-D629-4ABD-B82E-53B643354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EC51-23F1-4538-ADD1-5C4378964B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DC6-5E21-4AEA-A11B-680B197106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in the structure of the wall of blood vess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ndu-Osler-Weber dise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reditary hemorrhagic telangiectasia, with numerous AV malformations)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Ehlers-Danlos-ов syndrome (collagen structure disord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еч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mmune proces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chonlein-Henoch's purpura, S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ack of vitamin S (scurvy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lose their contact ability and collagen fiber synthesis is redu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nile atro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llagen fibers 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(senile purpu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long-term treatment with corticostero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Cushing's disease (steroid purpura), due to protein break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Diagram 2" descr=""/>
          <p:cNvPicPr/>
          <p:nvPr/>
        </p:nvPicPr>
        <p:blipFill>
          <a:blip r:embed="rId1"/>
          <a:stretch/>
        </p:blipFill>
        <p:spPr>
          <a:xfrm>
            <a:off x="-23760" y="-12600"/>
            <a:ext cx="91677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nt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the number of platelets (thrombocytopenia, less than 100,000/m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orma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eposition of platelets in splenomegaly (up to 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Qualitative disord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platelet function (thrombocytopath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,000 - 400,000 cells/mm3  norm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0,000                                    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,000 - 100,000      moderat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50,000                     severe thrombo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10,000                      vital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formation of platele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disorders (rare, hereditary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Fanconi's anem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order of genes for DNA repair enzymes, KS insuf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Wiscott-Aldrich syndrom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-linked disease, eczema, thrombocytopenia and immunodeficiency, decreased IgM, increased IgA and IgE, IgG may be decreased or increa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one marrow aplasi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ation, cytostatic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taking alcohol, drugs or hormone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rogen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V12 or folic ac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let athesia disorders and vWF de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3" descr="S01871-004-f008"/>
          <p:cNvPicPr/>
          <p:nvPr/>
        </p:nvPicPr>
        <p:blipFill>
          <a:blip r:embed="rId1"/>
          <a:stretch/>
        </p:blipFill>
        <p:spPr>
          <a:xfrm>
            <a:off x="2311560" y="1798560"/>
            <a:ext cx="4520880" cy="41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platele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разградња тромбоцит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Congenital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aternal immune reactio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etal platelets (similar to erythroblastosis fetali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utoantibodies in the mother'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stream enter the fetus's bloodstream via the placen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 thrombocytope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rugs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effect or type II or III hypersensitivity reaction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us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in thrombotic thrombocytopenic purpura and DI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diopathic</a:t>
            </a:r>
            <a:r>
              <a:rPr b="0" lang="en-US" sz="25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oimmune?) thrombocytopenic purpu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induced by thrombocytope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rin -induced thrombocytop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t occu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-5% of patients treated with unfractionated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 weeks after the introduction of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G antibodies against platelet factor 4 in a complex with heparin on the platelet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athogene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, arterial and venous (leading to severe thrombocytope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tibody binding causes platelet activation and 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herap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rombocytopenia - stop treatment with hepar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lytic thrombocytopenic purpu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ngenital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etalloproteinase enzyme that cleaves vWF in a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latelet-rich thro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quired form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that inhibit metalloprotein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029200" y="990720"/>
            <a:ext cx="3665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chi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4587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039920" cy="2629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4521240" y="517212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do not fade und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f.dg. angi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y are not palp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f. dg. vascul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572000" y="1828800"/>
            <a:ext cx="417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disorders of platelet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blood vessel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number and function of 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tendency to thromb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30" descr=""/>
          <p:cNvPicPr/>
          <p:nvPr/>
        </p:nvPicPr>
        <p:blipFill>
          <a:blip r:embed="rId1"/>
          <a:stretch/>
        </p:blipFill>
        <p:spPr>
          <a:xfrm>
            <a:off x="2971800" y="4967280"/>
            <a:ext cx="2895480" cy="1676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1630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thrombocytope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1028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9736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00240" y="21333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l Endanger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occu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5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 values: 150-400,000 cells/mm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029" descr=""/>
          <p:cNvPicPr/>
          <p:nvPr/>
        </p:nvPicPr>
        <p:blipFill>
          <a:blip r:embed="rId3"/>
          <a:stretch/>
        </p:blipFill>
        <p:spPr>
          <a:xfrm>
            <a:off x="2590920" y="182880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eredit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l factors may be missing, the most common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VIII deficiency (hemophilia 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X deficiency (hemophilia 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cquire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iver disea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Lack of vitamin 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struction of intestinal flora by antibiotics or reduced fat absorption (VII, IX and X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Presence of coagulation inhibit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 on coagulation factors, paraproteinemia) lupus anticoagu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xcessive consump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due to increased lysis of fibrino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liver failu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eased synthesis of factors that inactivate plasmin or inactivate plasminogen activato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malignant tumo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lease proteolytic enzymes that break down fibr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Willebrand's disea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ereditary disease with moderat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somal dominant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 = most common (70% of all c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nged bleeding time and normal platelet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↓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plasma vWF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↓ factor VIII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trombociti"/>
          <p:cNvPicPr/>
          <p:nvPr/>
        </p:nvPicPr>
        <p:blipFill>
          <a:blip r:embed="rId1"/>
          <a:stretch/>
        </p:blipFill>
        <p:spPr>
          <a:xfrm>
            <a:off x="890640" y="973080"/>
            <a:ext cx="7572240" cy="56721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2971800" y="1143000"/>
            <a:ext cx="23623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otheli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086600" y="3230640"/>
            <a:ext cx="1414440" cy="57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629400" y="4724280"/>
            <a:ext cx="141444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905440" y="6111720"/>
            <a:ext cx="236232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tele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143000" y="1409760"/>
            <a:ext cx="13716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120680" y="2325600"/>
            <a:ext cx="1828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106640" y="2859120"/>
            <a:ext cx="1865160" cy="95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endothelial microfibr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ditary disease with severe bl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ia the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H chromos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ss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 have no positive family history (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new mu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ibitors develop in 15% of sever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↓ </a:t>
            </a:r>
            <a:r>
              <a:rPr b="1" lang="en-US" sz="2400" spc="-1" strike="noStrike">
                <a:solidFill>
                  <a:srgbClr val="e46c0a"/>
                </a:solidFill>
                <a:latin typeface="Times New Roman"/>
                <a:ea typeface="Arial"/>
              </a:rPr>
              <a:t>amount or activity of factor V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actor VIII = cofactor for the activation of factor X in the coagulation casc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usually exist in severe forms (factor VIII &lt;1% of normal value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in the j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ruis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rauma or surgical inter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1859c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</a:rPr>
              <a:t>bleeding after tooth ex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verity of hemophili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philia – below 2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hemophilia – 2-1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hemophilia – 20–30% FV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emophilia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VIII) and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iciency F IX) are transmitted by H chromosomes and men become ill. Women are carriers, without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0" y="243828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419720" cy="3537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Von Willebrand</a:t>
            </a:r>
            <a:r>
              <a:rPr b="1" lang="en-US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diseas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the major fVIII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A (F VIII deficiency; 85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2560" y="1904760"/>
            <a:ext cx="5267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Spontaneous or traumatic subcutaneous ble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outh, lips, ton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j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C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 in the </a:t>
            </a:r>
            <a:r>
              <a:rPr b="1" lang="en-US" sz="2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025800" cy="3733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5410080" y="579132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после интрамускуларне инј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X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via the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X chromo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e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ess represented (1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linically indistinguish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Hemophilia A and the laboratory results are simi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: determining the concentration of factor 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495680" y="1905120"/>
            <a:ext cx="4473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hym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_x000b_slide04.tif                                                    0000003B_x0008_G3/8868A                       B2B8FD55:"/>
          <p:cNvPicPr/>
          <p:nvPr/>
        </p:nvPicPr>
        <p:blipFill>
          <a:blip r:embed="rId1"/>
          <a:stretch/>
        </p:blipFill>
        <p:spPr>
          <a:xfrm>
            <a:off x="2295360" y="1752480"/>
            <a:ext cx="2041560" cy="46436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5867280" y="3352680"/>
            <a:ext cx="294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ical of coagulation factor de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1" descr=""/>
          <p:cNvPicPr/>
          <p:nvPr/>
        </p:nvPicPr>
        <p:blipFill>
          <a:blip r:embed="rId1"/>
          <a:stretch/>
        </p:blipFill>
        <p:spPr>
          <a:xfrm>
            <a:off x="633240" y="2419200"/>
            <a:ext cx="7523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resentation of a lack of coagulatio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027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510080" cy="3504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288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insu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coagulation factors are synthesized in the li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029"/>
          <p:cNvSpPr/>
          <p:nvPr/>
        </p:nvSpPr>
        <p:spPr>
          <a:xfrm>
            <a:off x="533520" y="54864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onjunctival hemorrh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creased platelet activ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terial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platelet aggrega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ccelerated activity of the coagulation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ous thromb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 of fibrin comple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the number of platelets (thrombocytosi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ssential thrombocythemi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lignant proliferation in the bone marr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second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lignant blood tumors, connective tissue diseases, after splenectom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 in adhesiveness and aggregation ability of platele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in blood flow and damage to the endotheliu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roscler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holesterol concen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that increase the sensitivity of platele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action of factors that cause athesia and aggregation of platelet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hypercoagu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Increased activity of the coagulation syste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ood stasi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immobile patients or heart failu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disorders of the ratio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oagulation factors and anti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increasing the activity of coagulation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omen with an increased concentration of estrogen in the blood (oral contraceptives, older than 35 yea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puerper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tum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- </a:t>
            </a:r>
            <a:r>
              <a:rPr b="1" lang="en-US" sz="27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reducing the activity of anticoagulant facto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ditary disorders, complete lack of antithrombin III, plasminogen, proteins C and 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An acquired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y systemic intravascular coagulatio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d intravascular coa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ptive coagulopa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consumable thrombohemorrhagic syndro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efibrin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ck is a general disorder of hemosta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 a whole it includes disorder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ag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brinolytic mechanis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hibitors, quin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omplement 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21366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order begins with the activation of coagulation fac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gulation factors are used up and we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hrombi an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sis occu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fibrin degradation products increases, platelet function is disrupted = bleeding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1052"/>
          <p:cNvSpPr/>
          <p:nvPr/>
        </p:nvSpPr>
        <p:spPr>
          <a:xfrm>
            <a:off x="2057400" y="5334120"/>
            <a:ext cx="2438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53"/>
          <p:cNvSpPr/>
          <p:nvPr/>
        </p:nvSpPr>
        <p:spPr>
          <a:xfrm>
            <a:off x="4267080" y="5334120"/>
            <a:ext cx="2438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42"/>
          <p:cNvSpPr/>
          <p:nvPr/>
        </p:nvSpPr>
        <p:spPr>
          <a:xfrm>
            <a:off x="3229920" y="18572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underly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43"/>
          <p:cNvSpPr/>
          <p:nvPr/>
        </p:nvSpPr>
        <p:spPr>
          <a:xfrm>
            <a:off x="2021400" y="300024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activation of 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44"/>
          <p:cNvSpPr/>
          <p:nvPr/>
        </p:nvSpPr>
        <p:spPr>
          <a:xfrm>
            <a:off x="367200" y="3724200"/>
            <a:ext cx="20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 of fib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45"/>
          <p:cNvSpPr/>
          <p:nvPr/>
        </p:nvSpPr>
        <p:spPr>
          <a:xfrm>
            <a:off x="6573240" y="3786120"/>
            <a:ext cx="198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gulation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6"/>
          <p:cNvSpPr/>
          <p:nvPr/>
        </p:nvSpPr>
        <p:spPr>
          <a:xfrm>
            <a:off x="2369160" y="57150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romb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47"/>
          <p:cNvSpPr/>
          <p:nvPr/>
        </p:nvSpPr>
        <p:spPr>
          <a:xfrm>
            <a:off x="472248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48"/>
          <p:cNvSpPr/>
          <p:nvPr/>
        </p:nvSpPr>
        <p:spPr>
          <a:xfrm>
            <a:off x="43434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50"/>
          <p:cNvSpPr/>
          <p:nvPr/>
        </p:nvSpPr>
        <p:spPr>
          <a:xfrm flipH="1" flipV="1">
            <a:off x="2666880" y="3580560"/>
            <a:ext cx="1067040" cy="1143000"/>
          </a:xfrm>
          <a:custGeom>
            <a:avLst/>
            <a:gdLst>
              <a:gd name="textAreaLeft" fmla="*/ 613800 w 1067040"/>
              <a:gd name="textAreaRight" fmla="*/ 900360 w 106704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51"/>
          <p:cNvSpPr/>
          <p:nvPr/>
        </p:nvSpPr>
        <p:spPr>
          <a:xfrm flipV="1">
            <a:off x="5334120" y="3580560"/>
            <a:ext cx="1066680" cy="1143000"/>
          </a:xfrm>
          <a:custGeom>
            <a:avLst/>
            <a:gdLst>
              <a:gd name="textAreaLeft" fmla="*/ 613800 w 1066680"/>
              <a:gd name="textAreaRight" fmla="*/ 900360 w 106668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54"/>
          <p:cNvSpPr/>
          <p:nvPr/>
        </p:nvSpPr>
        <p:spPr>
          <a:xfrm>
            <a:off x="693432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55"/>
          <p:cNvSpPr/>
          <p:nvPr/>
        </p:nvSpPr>
        <p:spPr>
          <a:xfrm flipH="1">
            <a:off x="685080" y="5105520"/>
            <a:ext cx="1066680" cy="11430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DI</a:t>
            </a:r>
            <a:r>
              <a:rPr b="0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2560" y="11430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f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psis (Gram (+) and Gram (-) bacteria), viral infections (Dengue, Ebola), others (rickettsia, malaria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rauma/tissue inju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 injury, pancreatitis, fat embolism, penetrating and other severe wou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ligna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lid tumors, acute leukemias (especially AML-M3), chronic leukemias (CMML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omplications after childbir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acental abruption, amniotic fluid embol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ascular dise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rge hemangiomas, large aortic aneurysm, vascular malform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allergic/toxic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xic shock, snake or spider bi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rious immune rea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ute post-transfusion haemolysis, heparin-induced thrombocytopenia, type II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sepsis: a complex clinical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11040" y="4203720"/>
            <a:ext cx="40039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ortality (28%-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geneous patient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4262400" y="2048040"/>
            <a:ext cx="4267080" cy="4069800"/>
            <a:chOff x="4262400" y="2048040"/>
            <a:chExt cx="4267080" cy="4069800"/>
          </a:xfrm>
        </p:grpSpPr>
        <p:sp>
          <p:nvSpPr>
            <p:cNvPr id="283" name="Oval 6"/>
            <p:cNvSpPr/>
            <p:nvPr/>
          </p:nvSpPr>
          <p:spPr>
            <a:xfrm>
              <a:off x="42624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7"/>
            <p:cNvSpPr/>
            <p:nvPr/>
          </p:nvSpPr>
          <p:spPr>
            <a:xfrm>
              <a:off x="6091200" y="2048040"/>
              <a:ext cx="2438280" cy="243828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"/>
            <p:cNvSpPr/>
            <p:nvPr/>
          </p:nvSpPr>
          <p:spPr>
            <a:xfrm>
              <a:off x="5176800" y="3571920"/>
              <a:ext cx="2438280" cy="2437920"/>
            </a:xfrm>
            <a:prstGeom prst="ellips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9"/>
            <p:cNvSpPr/>
            <p:nvPr/>
          </p:nvSpPr>
          <p:spPr>
            <a:xfrm>
              <a:off x="5786280" y="3190680"/>
              <a:ext cx="1219320" cy="1218960"/>
            </a:xfrm>
            <a:prstGeom prst="ellipse">
              <a:avLst/>
            </a:prstGeom>
            <a:solidFill>
              <a:srgbClr val="00bfec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>
              <a:off x="6548400" y="574992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4363920" y="3857400"/>
              <a:ext cx="38088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"/>
            <p:cNvSpPr/>
            <p:nvPr/>
          </p:nvSpPr>
          <p:spPr>
            <a:xfrm>
              <a:off x="8015040" y="2282760"/>
              <a:ext cx="381240" cy="36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4408560" y="261612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inflam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551560" y="4780080"/>
            <a:ext cx="174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fibrin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745320" y="2770200"/>
            <a:ext cx="174312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38120" y="31021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Calibri"/>
              </a:rPr>
              <a:t>Antithromb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732920" y="3030480"/>
            <a:ext cx="35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Thromb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1143000" y="2286000"/>
            <a:ext cx="5867280" cy="762120"/>
          </a:xfrm>
          <a:custGeom>
            <a:avLst/>
            <a:gdLst>
              <a:gd name="textAreaLeft" fmla="*/ 1026720 w 5867280"/>
              <a:gd name="textAreaRight" fmla="*/ 4253760 w 58672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912040" y="129528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od vesse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94200" y="38098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(favor the liquid state of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37720" y="380988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(favor coag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DI</a:t>
            </a: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Bleeding tendency in the presence of widespread thrombi in the cir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acute DI</a:t>
            </a:r>
            <a:r>
              <a:rPr b="1" lang="sr-Latn-RS" sz="2400" spc="-1" strike="noStrike">
                <a:solidFill>
                  <a:srgbClr val="558ed5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bleeding predomin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childbirth complications and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Times New Roman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chronic D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rombotic complications do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mptoms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to marked </a:t>
            </a: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shock, renal failure, dyspnea, cyanosis, convulsions and c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Times New Roman"/>
              </a:rPr>
              <a:t>hypo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haracteristic symp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asoconstriction, tissue factor (TF) and prostacyclin release after blood vessel wall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cyte 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hesia, aggregation, release of ADP and prostacyc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gulation factor activ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series of cascade reactions that lead to the production of thrombin and the conversion of fibrinogen to fib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no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mits the spread of the thrombus outside the injury site, leads to lysis of the thrombus and wound he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trombociti 2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Content Placeholder 5" descr="blood clot.jpg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st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tendency to 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morrhagic diathesis, hemorrhagic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ncreas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lood coagu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endency to thrombosis and em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that increase the tendency to hemorrh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structure of the wall of blood ve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number and function of plate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n the concentration of blood coagulation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orders can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c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6:33:02Z</dcterms:created>
  <dc:creator>Simonovic</dc:creator>
  <dc:description/>
  <dc:language>en-US</dc:language>
  <cp:lastModifiedBy>User</cp:lastModifiedBy>
  <dcterms:modified xsi:type="dcterms:W3CDTF">2023-09-10T08:16:45Z</dcterms:modified>
  <cp:revision>71</cp:revision>
  <dc:subject/>
  <dc:title>Поремећаји хемостазе</dc:title>
</cp:coreProperties>
</file>